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40A3-1C5D-48EF-BA4C-A2D97234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B216-6842-4736-A1FF-BF8850D73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6FC-2F43-4805-B611-FCF773879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4DFA-3D26-4701-8508-9DED631C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6696-C89C-4709-A436-6383BC54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F184-F094-4826-911F-4001B2B4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567E-D721-4E08-ADAE-0A84D271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49FF-E707-4478-8D5D-9DC6F870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12ED-A647-40A0-B5A1-CCDF05AF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C68F-810C-452C-8EBE-4D7AD96B2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E092-EA68-4CDD-AC42-E3DC802C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A306-540D-4972-9F64-95544611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4401-B8DE-4E26-B942-A29BEC24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8002-A573-40DB-A925-8561A2F3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84B8-02D4-4900-BE08-5C0C4AE1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DCC9-0A18-4BAA-B9CA-559608A3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7043-C524-4314-BE3F-31CFBE39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A14-F801-445F-A0C6-4B994BB1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E23-65EA-460D-B506-FE436F78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9AE-90D0-4E04-AB85-37C4D0E1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848-077E-4810-8B0A-35A70C89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F55-A4FE-4405-B230-E0BEE5A8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9F45-40AB-4ACC-A7D7-673F8A05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D15-7619-46D5-940E-94AC5BF1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837840"/>
                  <a:gd name="textAreaBottom" fmla="*/ 6838200 h 68378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49560"/>
                  <a:gd name="textAreaBottom" fmla="*/ 349920 h 349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02200"/>
                  <a:gd name="textAreaBottom" fmla="*/ 502560 h 502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376200"/>
                  <a:gd name="textAreaBottom" fmla="*/ 376560 h 37620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871D-615E-4A42-8988-0D24AD523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1027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1028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20240"/>
                  <a:gd name="textAreaBottom" fmla="*/ 9120600 h 912024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1029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520"/>
                  <a:gd name="textAreaBottom" fmla="*/ 668880 h 6685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1030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1031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32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1033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560"/>
                  <a:gd name="textAreaBottom" fmla="*/ 574920 h 5745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34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0040"/>
                  <a:gd name="textAreaBottom" fmla="*/ 500400 h 5000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035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036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037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5000"/>
                  <a:gd name="textAreaBottom" fmla="*/ 405360 h 4050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38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560"/>
                  <a:gd name="textAreaBottom" fmla="*/ 466920 h 4665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039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040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041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042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960"/>
                  <a:gd name="textAreaBottom" fmla="*/ 670320 h 6699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043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044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>
                  <a:gd name="textAreaLeft" fmla="*/ -360 w 461880"/>
                  <a:gd name="textAreaRight" fmla="*/ 461880 w 46188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045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3120"/>
                  <a:gd name="textAreaBottom" fmla="*/ 573480 h 5731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046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840"/>
                  <a:gd name="textAreaBottom" fmla="*/ 502200 h 501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1047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>
                <a:gd name="textAreaLeft" fmla="*/ -360 w 9147240"/>
                <a:gd name="textAreaRight" fmla="*/ 9147240 w 914724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1048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1452-9B90-43CA-88C1-28DA3E0C9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126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676520" y="4114800"/>
            <a:ext cx="58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ing, Trinomials, Binomials, GCF &amp; Solving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t’s try thi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fir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the factors of the last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y on the diagonal and add to see if you get the middle term of the trinomial.  If so, you’re 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886200" y="3124080"/>
            <a:ext cx="13716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4648320" y="31240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886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ifference of Squa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a difference of square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ly 2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us sign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th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3 of the above are true, write tw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), one with a + sign and one with a – sign : (   +   ) (   -   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9320" y="152280"/>
            <a:ext cx="72849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erfect Square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factoring using perfect square trinomials, look for the following three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term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u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be posi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nd last terms must be perfect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ll three of the above are true, write one (    )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ing the sign of the middle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ry Thes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 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9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3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– 1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8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-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Completel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that we’ve learned all the types of factoring, we need to remember to use them 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ever it says to factor, you must break down the expression into the smallest poss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t’s review all the ways to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ypes of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GCF fir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 the number of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terms – 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rm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perfect square trinom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-293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not, try diamond or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3800" indent="-351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erms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difference of squ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y ( ) still has an exponent of 2 or more, see if you can factor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9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polynomials contain four terms, it is sometimes easier to group like terms in order to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goal is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 also move terms around in the polynomial to create a common fa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actice makes you better in recognizing common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720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olving Equations by Factor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know that an equation must be solved for the unkn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 to now, we have only solved equations with a degree of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8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an equation has a degree of 2 or higher, we cannot solve it until it has been fac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first get “0” on one side of the = sign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ry any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ce you have “0” on one side, use all your rules for factoring to make 2 ( ) or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teps to Solve Equations by Factor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, set each factor = 0 and solve for the unkn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     Factor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set each factor = 0, &amp; sol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+ 12 = 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                             </a:t>
            </a:r>
            <a:r>
              <a:rPr b="1" i="1" lang="en-US" sz="2800" spc="-1" strike="noStrike">
                <a:solidFill>
                  <a:srgbClr val="00cc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  = - 1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now have 2 answers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0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-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Four Term Poly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Picture 3" descr="PE02097_"/>
          <p:cNvPicPr/>
          <p:nvPr/>
        </p:nvPicPr>
        <p:blipFill>
          <a:blip r:embed="rId1"/>
          <a:stretch/>
        </p:blipFill>
        <p:spPr>
          <a:xfrm>
            <a:off x="2590920" y="3389400"/>
            <a:ext cx="43322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1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+ 5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21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35 =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–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7)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br>
              <a:rPr sz="48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2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: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m 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990099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990099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 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The green parentheses are the same so it’s the common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(3</a:t>
            </a:r>
            <a:r>
              <a:rPr b="1" i="1" lang="en-US" sz="3200" spc="-1" strike="noStrike">
                <a:solidFill>
                  <a:srgbClr val="6699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669900"/>
                </a:solidFill>
                <a:latin typeface="Times New Roman"/>
              </a:rPr>
              <a:t> - 2)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2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 by Grouping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mple 3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:  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+ 4</a:t>
            </a:r>
            <a:r>
              <a:rPr b="1" i="1" lang="en-US" sz="2800" spc="-1" strike="noStrike">
                <a:solidFill>
                  <a:srgbClr val="990099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 –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fir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= 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 the last two ter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 4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20 =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–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The green parentheses are opposites so change the sign on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 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-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+ 5) or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– 4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 (5 -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w you have a comm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(5 – </a:t>
            </a:r>
            <a:r>
              <a:rPr b="1" i="1" lang="en-US" sz="2800" spc="-1" strike="noStrike">
                <a:solidFill>
                  <a:srgbClr val="6699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6699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–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Factoring Trinominal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rinomials have a degree of “2”, they are known a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quadratic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learned earlier to use the “diamond” to factor trinomials that had a “1” in front of the squared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1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3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7)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ore Factoring Trinomia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there is a coefficient larger than “1” in front of the squared term, we can use a modified diamond or square to find the fa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ways remember to look for a GC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f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do ANY other facto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21:25:54Z</dcterms:created>
  <dc:creator>June Hilton</dc:creator>
  <dc:description/>
  <dc:language>en-US</dc:language>
  <cp:lastModifiedBy>inass.ibrahim</cp:lastModifiedBy>
  <dcterms:modified xsi:type="dcterms:W3CDTF">2012-02-22T08:18:09Z</dcterms:modified>
  <cp:revision>21</cp:revision>
  <dc:subject/>
  <dc:title>SECTION 7.3:  Factor By Grouping</dc:title>
</cp:coreProperties>
</file>